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BA8-64BE-4A62-BC7E-EFC889D1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CF0-24AE-4CA9-A8B5-7CC83D93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535-82CA-4AEA-B636-36D487A6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1FD-F012-4F01-9905-B057F1D0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96D-E625-4D50-849F-48D5F2AE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07B-17DF-4B5A-86EA-5F2B7D3F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A65-18D0-4871-B693-1B08A923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EFE-6C0B-444B-825F-4303A37D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1B8-09F7-471B-8937-BAE54017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4EC-B0D0-40DE-979B-16F57639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690-FB9D-4A94-99A8-A15D1FF7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3BC-A2A4-4AFB-AAA3-9C54E937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CD3A-A1DF-487C-BFB3-541374D5E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208908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826920" y="134136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60640"/>
            <a:ext cx="2411280" cy="23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MIGRA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ANDO LE PERS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 UN PAESE SE 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NNO ALL’ESTER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IVERE E CER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797360"/>
            <a:ext cx="2158920" cy="18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LI ITALIANI SO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TI EMIGR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MOLTI PAESI 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CHE SE ME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 UNA VOLTA, 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ONO PURE O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765000"/>
            <a:ext cx="431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476280"/>
            <a:ext cx="151308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PERS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NO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ER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ALT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ESE 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27640" y="54900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119700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48360" y="189000"/>
            <a:ext cx="172872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VARE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1197000"/>
            <a:ext cx="2087640" cy="10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GGIRE 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UAZIO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ILI (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R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450864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360" y="4653000"/>
            <a:ext cx="1513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6021360"/>
            <a:ext cx="86508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6138720"/>
            <a:ext cx="129528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6093000"/>
            <a:ext cx="1368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558972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5445000"/>
            <a:ext cx="504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419640" y="5661000"/>
            <a:ext cx="1425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2349360"/>
            <a:ext cx="2160360" cy="187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CHIA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DO IN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ESE ARRIV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IERI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ERE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CARE 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1197000"/>
            <a:ext cx="863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27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84720" y="2421000"/>
            <a:ext cx="1511640" cy="151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ITAL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RATTUTTO D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5013360"/>
            <a:ext cx="163332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12000" y="4005360"/>
            <a:ext cx="72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0000" y="4005360"/>
            <a:ext cx="576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51640" y="5157720"/>
            <a:ext cx="129708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771640" y="501300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51:58Z</dcterms:created>
  <dc:creator>studente</dc:creator>
  <dc:description/>
  <dc:language>en-US</dc:language>
  <cp:lastModifiedBy>studente</cp:lastModifiedBy>
  <dcterms:modified xsi:type="dcterms:W3CDTF">2016-12-05T10:26:43Z</dcterms:modified>
  <cp:revision>3</cp:revision>
  <dc:subject/>
  <dc:title>Diapositiva 1</dc:title>
</cp:coreProperties>
</file>